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350-E914-4A6F-A7B9-1E6586C7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FE0-349D-433F-9DB0-3C961F9E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734-4743-4019-9423-960A9BBA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233-C29B-4B0D-ADF0-506C2ED9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06F-9EB2-4D65-ADC4-87A15389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EE3-ED9F-4D72-A8E8-438D5BBD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7B6-30B7-4A6A-99AF-3C02372B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440-4C03-4C9B-97E8-A0BE622C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23A-26FC-464A-853C-29AA55FB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E50-5DF5-4329-ADBC-F30EE7A9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B55-A0DF-4133-9568-36E7804F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67D-3FFD-4341-A6FB-3FBF374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8B36-4F81-4CC4-B096-A60C8D830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4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457200"/>
            <a:ext cx="2438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ني أبشّركم بفرحٍ عظيم وُلِدَ لنا مُخَلِّصٌ وهوَ المسيح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4455898PWTKEWSFrh_ph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380880"/>
            <a:ext cx="160020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شعبُ الّسالكُ في الظُّلمة أبصَرَ نوراً عظيم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4984762EpprHVgXkZ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762120"/>
            <a:ext cx="38862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عُميُ يُبصرو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الموتى يقومو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الأسرى يُطلق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والمساكين يُبَشرون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25:15Z</dcterms:created>
  <dc:creator>SUZANNE.MD</dc:creator>
  <dc:description/>
  <dc:language>en-US</dc:language>
  <cp:lastModifiedBy>USER</cp:lastModifiedBy>
  <dcterms:modified xsi:type="dcterms:W3CDTF">2002-12-19T11:11:06Z</dcterms:modified>
  <cp:revision>3</cp:revision>
  <dc:subject/>
  <dc:title>PowerPoint Presentation</dc:title>
</cp:coreProperties>
</file>